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10671175" cy="8002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96044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99840" y="4310640"/>
            <a:ext cx="96044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621400" y="155268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99840" y="431064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621400" y="431064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309240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47400" y="1552680"/>
            <a:ext cx="309240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194600" y="1552680"/>
            <a:ext cx="309240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99840" y="4310640"/>
            <a:ext cx="309240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947400" y="4310640"/>
            <a:ext cx="309240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194600" y="4310640"/>
            <a:ext cx="309240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99840" y="1552680"/>
            <a:ext cx="9604440" cy="52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FrutigerNext LT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9604440" cy="52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4686840" cy="52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621400" y="1552680"/>
            <a:ext cx="4686840" cy="52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99840" y="320760"/>
            <a:ext cx="9604440" cy="61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FrutigerNext LT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621400" y="1552680"/>
            <a:ext cx="4686840" cy="52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99840" y="431064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99840" y="1552680"/>
            <a:ext cx="9604440" cy="52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FrutigerNext LT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4686840" cy="52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21400" y="155268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621400" y="431064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621400" y="155268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99840" y="4310640"/>
            <a:ext cx="96044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96044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99840" y="4310640"/>
            <a:ext cx="96044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621400" y="155268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99840" y="431064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621400" y="431064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309240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947400" y="1552680"/>
            <a:ext cx="309240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7194600" y="1552680"/>
            <a:ext cx="309240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99840" y="4310640"/>
            <a:ext cx="309240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947400" y="4310640"/>
            <a:ext cx="309240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7194600" y="4310640"/>
            <a:ext cx="309240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B77A39-87E1-47B9-9A87-1CC2577EA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99840" y="1552680"/>
            <a:ext cx="9604440" cy="52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FrutigerNext LT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5FEFB7-5EC3-49BB-838A-5600CE8A0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9604440" cy="52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134BF2-4C3D-4461-80AA-B75D3B6D5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4686840" cy="52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621400" y="1552680"/>
            <a:ext cx="4686840" cy="52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8157D2-CB3F-41B3-915C-2756C9941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771865-8218-4744-8682-538D2555E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9604440" cy="52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699840" y="320760"/>
            <a:ext cx="9604440" cy="61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FrutigerNext LT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1D882C-25D2-495F-9E86-458C0DFD4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621400" y="1552680"/>
            <a:ext cx="4686840" cy="52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99840" y="431064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21FC3A-6E39-4D4C-BD2E-F1DA4D0F7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4686840" cy="52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621400" y="155268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621400" y="431064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E13E42-BFFD-4EE6-93DC-7A8110BA8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621400" y="155268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99840" y="4310640"/>
            <a:ext cx="96044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6350C9-7F8A-470F-944A-93E9D0204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96044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99840" y="4310640"/>
            <a:ext cx="96044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42035B-A37C-4D7E-A92B-F11B8C2C3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621400" y="155268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99840" y="431064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621400" y="431064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8D959B-E848-4845-A95A-5C55FBC1E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309240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947400" y="1552680"/>
            <a:ext cx="309240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7194600" y="1552680"/>
            <a:ext cx="309240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699840" y="4310640"/>
            <a:ext cx="309240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947400" y="4310640"/>
            <a:ext cx="309240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7194600" y="4310640"/>
            <a:ext cx="309240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0C6689-A237-455E-A6ED-0A1EDCE3B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983637-8932-4F33-8578-BCF4ECE77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699840" y="1552680"/>
            <a:ext cx="9604440" cy="52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FrutigerNext LT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39B2E3-F136-4F05-92AC-BBBEFF3F5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9604440" cy="52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5705A0-BE57-4846-8887-981378700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4686840" cy="52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621400" y="1552680"/>
            <a:ext cx="4686840" cy="52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4686840" cy="52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621400" y="1552680"/>
            <a:ext cx="4686840" cy="52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77853B-0C0B-4FF7-8529-4E8811D60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97B964-ED4F-459A-966B-CC103A803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699840" y="320760"/>
            <a:ext cx="9604440" cy="61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FrutigerNext LT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E46707-06FC-4E94-8A8E-5076B9534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621400" y="1552680"/>
            <a:ext cx="4686840" cy="52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99840" y="431064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4F2B42-8E64-4129-A95A-7C30F19D5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4686840" cy="52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621400" y="155268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621400" y="431064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FBB261-812A-4097-8CDE-9C0E2559A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621400" y="155268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99840" y="4310640"/>
            <a:ext cx="96044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8404CA-6032-40E8-BA65-2029952A3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96044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99840" y="4310640"/>
            <a:ext cx="96044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53D24F-F5E7-4C94-9CF5-A2F3EDEEC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621400" y="155268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99840" y="431064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5621400" y="431064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725189-440F-45E7-9C74-03116018D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309240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947400" y="1552680"/>
            <a:ext cx="309240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7194600" y="1552680"/>
            <a:ext cx="309240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699840" y="4310640"/>
            <a:ext cx="309240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947400" y="4310640"/>
            <a:ext cx="309240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7194600" y="4310640"/>
            <a:ext cx="309240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F23EBE-6756-49E3-BD32-58B305FB0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99840" y="320760"/>
            <a:ext cx="9604440" cy="61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FrutigerNext LT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621400" y="1552680"/>
            <a:ext cx="4686840" cy="52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99840" y="431064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4686840" cy="52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621400" y="155268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621400" y="431064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621400" y="155268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99840" y="4310640"/>
            <a:ext cx="96044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9840" y="1552680"/>
            <a:ext cx="9604440" cy="52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7257960"/>
            <a:ext cx="10669680" cy="7430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755640" y="7543800"/>
            <a:ext cx="2990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Bold"/>
              </a:rPr>
              <a:t>HUAWEI TECHNOLOGIES Co., Lt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8763120" y="7467480"/>
            <a:ext cx="1528560" cy="3621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19920" y="7467480"/>
            <a:ext cx="123336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FrutigerNext LT Medium"/>
              </a:defRPr>
            </a:lvl1pPr>
          </a:lstStyle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Medium"/>
              </a:rPr>
              <a:t>Page </a:t>
            </a:r>
            <a:fld id="{B44B1609-9F4F-4C99-9409-468222D98E78}" type="slidenum">
              <a:rPr b="0" lang="de-DE" sz="1200" spc="-1" strike="noStrike">
                <a:solidFill>
                  <a:srgbClr val="000000"/>
                </a:solidFill>
                <a:latin typeface="FrutigerNext LT Mediu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255920" y="7534440"/>
            <a:ext cx="18432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7257960"/>
            <a:ext cx="10669680" cy="7430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81920" y="7543800"/>
            <a:ext cx="3076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Bold"/>
              </a:rPr>
              <a:t>HUAWEI TECHNOLOGIES CO., LT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8763120" y="7467480"/>
            <a:ext cx="1528560" cy="3621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2"/>
          </p:nvPr>
        </p:nvSpPr>
        <p:spPr>
          <a:xfrm>
            <a:off x="533160" y="7286400"/>
            <a:ext cx="24908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FrutigerNext LT Medium"/>
              </a:defRPr>
            </a:lvl1pPr>
          </a:lstStyle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Medium"/>
              </a:rPr>
              <a:t>Page </a:t>
            </a:r>
            <a:fld id="{173807ED-52FE-497D-8602-A17DE9ECF1C7}" type="slidenum">
              <a:rPr b="0" lang="de-DE" sz="1200" spc="-1" strike="noStrike">
                <a:solidFill>
                  <a:srgbClr val="000000"/>
                </a:solidFill>
                <a:latin typeface="FrutigerNext LT Mediu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10671120" cy="800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8763120" y="6508800"/>
            <a:ext cx="957240" cy="958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0" y="914400"/>
            <a:ext cx="10669680" cy="44449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30080" y="380880"/>
            <a:ext cx="1911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FrutigerNext LT Regular"/>
              </a:rPr>
              <a:t>02. August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55640" y="7240680"/>
            <a:ext cx="2990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Bold"/>
              </a:rPr>
              <a:t>HUAWEI TECHNOLOGIES Co., Lt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456760" y="4648320"/>
            <a:ext cx="1755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560" rIns="106560" tIns="53280" bIns="53280" anchor="t">
            <a:noAutofit/>
          </a:bodyPr>
          <a:p>
            <a:pPr algn="ctr">
              <a:lnSpc>
                <a:spcPct val="15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FrutigerNext LT Medium"/>
                <a:ea typeface="宋体"/>
              </a:rPr>
              <a:t>www.huawei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03920" y="7240680"/>
            <a:ext cx="1927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799920" y="2486160"/>
            <a:ext cx="907092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body"/>
          </p:nvPr>
        </p:nvSpPr>
        <p:spPr>
          <a:xfrm>
            <a:off x="533520" y="1872360"/>
            <a:ext cx="960300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5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FrutigerNext LT Medium"/>
              </a:rPr>
              <a:t>Click to edit the outline text format</a:t>
            </a:r>
            <a:endParaRPr b="1" lang="en-US" sz="900" spc="-1" strike="noStrike">
              <a:solidFill>
                <a:srgbClr val="ffffff"/>
              </a:solidFill>
              <a:latin typeface="FrutigerNext LT Medium"/>
            </a:endParaRPr>
          </a:p>
          <a:p>
            <a:pPr lvl="1" marL="457200" indent="0" algn="ctr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37016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320760"/>
            <a:ext cx="960408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533520" y="1866600"/>
            <a:ext cx="9604080" cy="52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30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3"/>
          </p:nvPr>
        </p:nvSpPr>
        <p:spPr>
          <a:xfrm>
            <a:off x="533160" y="7286400"/>
            <a:ext cx="2490840" cy="55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4"/>
          </p:nvPr>
        </p:nvSpPr>
        <p:spPr>
          <a:xfrm>
            <a:off x="3646440" y="7286400"/>
            <a:ext cx="3378240" cy="55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5"/>
          </p:nvPr>
        </p:nvSpPr>
        <p:spPr>
          <a:xfrm>
            <a:off x="7647120" y="7286400"/>
            <a:ext cx="2490480" cy="55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30AF2-0414-4035-8C25-78D2C5B1559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99920" y="2486160"/>
            <a:ext cx="907092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6"/>
          </p:nvPr>
        </p:nvSpPr>
        <p:spPr>
          <a:xfrm>
            <a:off x="533160" y="7286400"/>
            <a:ext cx="2490840" cy="55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ftr" idx="7"/>
          </p:nvPr>
        </p:nvSpPr>
        <p:spPr>
          <a:xfrm>
            <a:off x="3646440" y="7286400"/>
            <a:ext cx="3378240" cy="55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sldNum" idx="8"/>
          </p:nvPr>
        </p:nvSpPr>
        <p:spPr>
          <a:xfrm>
            <a:off x="7647120" y="7286400"/>
            <a:ext cx="2490480" cy="55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A735B-0B78-4C6D-983E-24BFE3E8EDF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951200" y="3279600"/>
            <a:ext cx="43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utigerNext LT Medium"/>
              </a:rPr>
              <a:t>September 11,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utigerNext LT Medium"/>
              </a:rPr>
              <a:t>Asian IBIS Summit, Beijing Ch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9400" y="1768320"/>
            <a:ext cx="6973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FrutigerNext LT Medium"/>
              </a:rPr>
              <a:t>IBIS4.2 FOR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FrutigerNext LT Medium"/>
              </a:rPr>
              <a:t>DDR2 TIMING ANALYSIS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111560" y="4576680"/>
            <a:ext cx="28796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utigerNext LT Medium"/>
              </a:rPr>
              <a:t>Guan Ta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utigerNext LT Medium"/>
              </a:rPr>
              <a:t>guantao@huawei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Read Cycle Timing Calculation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951200" y="1768320"/>
            <a:ext cx="5935680" cy="48387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4398840" y="5945040"/>
            <a:ext cx="1224000" cy="611280"/>
          </a:xfrm>
          <a:prstGeom prst="rect">
            <a:avLst/>
          </a:prstGeom>
          <a:gradFill rotWithShape="0">
            <a:gsLst>
              <a:gs pos="0">
                <a:srgbClr val="990000">
                  <a:alpha val="86274"/>
                </a:srgbClr>
              </a:gs>
              <a:gs pos="100000">
                <a:srgbClr val="460000">
                  <a:alpha val="31372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24960" y="320760"/>
            <a:ext cx="967932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Write Cycle Timing Analysis (fast)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19200" y="1515960"/>
            <a:ext cx="914544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n fast mode,</a:t>
            </a:r>
            <a:r>
              <a:rPr b="1" lang="en-US" sz="19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he simulated eye diagram of write cycle is  as follow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valid window :1.426n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veform distortion :0.074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239920" y="3279600"/>
            <a:ext cx="5815080" cy="35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Write Cycle Timing Analysis (slow)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00200" y="1552320"/>
            <a:ext cx="902808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slow mode, the simulated eye diagram of write cycle is as follow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valid window:1.271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veform distortion: 0.229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2311560" y="3208320"/>
            <a:ext cx="5379840" cy="34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Write Cycle Timing Calculation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735200" y="1552680"/>
            <a:ext cx="6230880" cy="53244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4867200" y="6413400"/>
            <a:ext cx="3060720" cy="432000"/>
          </a:xfrm>
          <a:prstGeom prst="rect">
            <a:avLst/>
          </a:prstGeom>
          <a:solidFill>
            <a:srgbClr val="0000ff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Drawbacks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9604440" cy="52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effici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method of DDR2 timing analysis above is a time-consuming and manual procedure. Simulations are run on each net to generate eye diagrams, through which signal integrity and  timing characteristics of an individual net can be evaluat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times meaningl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imulation is meaningless, when the margin is negative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DR2 timing analysis is made under absolute worst-case conditions. Owing to the worst-case prediction of all parameters applied to a single net, the margin analysis method described above may predict a failure when in fact the actual design is sound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Deficiencies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of IBIS3.2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960444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BIS3.2 model has the following several deficiencies for timing analysis of DDR2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6036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IBIS3.2 model is not programmable, so that it is difficult to implement a flexible simulation and process slew rate table automatically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6036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IBIS3.2 model is not flexible enough to accommodate new techniqu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6036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IBIS3.2 model is a parameterized model, not able to process the simulated waveform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IBIS4.2 Model Meets the Challenges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9604440" cy="52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ndy Wolff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ry L. Pratt. P.E and their collaborators solve these problems in IBIS4.2 model. IBIS4.2 is an extension of IBIS3.2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BIS4.2/AMS multiplexer permits the simulator to select between an IBIS model with ODT and one without ODT;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ports seamless switch of read cycle and write cycle simulation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ough running a section of VHDL code, the simulator is able to measure the slope of relevant signals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omatically determines the corresponding value in the slew rate table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’s a good solution to problems we are facing now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IBIS 4.2 for Timing Analysis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55200" y="1479600"/>
            <a:ext cx="9720360" cy="22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the IBIS4.2 model ,we can make the following measurements automatically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25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matic overshoot area measure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25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matic setup and holdup timing measure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25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ew-dependent timing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2455920" y="4000680"/>
            <a:ext cx="4753080" cy="29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One Solution of ODT Circuit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087560" y="2560680"/>
            <a:ext cx="8008920" cy="33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VHDL-AMS Code for Multiplexer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305000" y="1913040"/>
            <a:ext cx="7016760" cy="38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Outline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9604440" cy="52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technologies have brought challenges to IBIS mode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DR2 timing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ad cycle timing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rite cycle timing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BIS4.2 model meets the challen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Slew Rate Table Calculation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942840" y="1552680"/>
            <a:ext cx="8159760" cy="50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Output Results 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519200" y="1552680"/>
            <a:ext cx="720108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Advantages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55200" y="1696680"/>
            <a:ext cx="9675720" cy="53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exi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IBIS4.2 model is programmable, so that the model is flexible and appropriate to new technolog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l-ti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margin is properly measured on every edge in the method of timing analysis, which takes the influence of slew rate table into considerati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omat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rocedure of timing analysis is automatic and prompt. The output results are reasonable and simpl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Requirements from System Vendors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9604440" cy="56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BIS4.2 model is a good solution to the high rate bus of memory timing analysis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There is still few EDA vendors to fully support the IBIS4.2 model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Due to no spice2AMS tool in place, the majority of  IC vendors do not have a schedule  to provide the IBIS4.2 model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The results are consistent , when we use the same IBIS model on different platforms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 The IBIS model should be accurate enough to depict electrical characteristics of chip properly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 Building the package model should be paid  more attention to as the bus rate  increases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evelopment of IBIS needs our efforts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！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Challenges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00200" y="1479240"/>
            <a:ext cx="9531360" cy="52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re SI and timing problems emerge as the rate of  bus increases , these problems can be eliminated by new techniques 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7640" indent="-2858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DT (On Die Terminatio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7640" indent="-28584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D (Off-chip Driver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llenges of DDR2 modeling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76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to model the ODT circu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76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to use the slew rate t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etup and holdup time are varying with the slope of the signal in DDR2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DDR2 Timing Analysis Method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9604440" cy="55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roper method of a DDR2 timing analysis should contain the following  essentials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king for a balance between simulation efficiency and waveform quality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rallel simulation and crosstalk can be processed by EDA platforms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EDA platform can process the PRBS (pseudo-random bit sequence) code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pology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tching and transmitter/receiver buffer can be automatically analyz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ettle and switch delay between standard load and practical load can be considered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luence of voltage and temperature can be included in the simulation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ODT circuit and slew rate table can be considere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Current simulation method is not good enough to support the features listed here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  <a:ea typeface=""/>
              </a:rPr>
              <a:t>Timing Relationships of DDR2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98480" y="1552680"/>
            <a:ext cx="8740800" cy="52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ee timing relationships in DDR2 timing analysi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RESS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AND and CK/CK#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Q and DQS/DQS#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QS and CK/CK#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490840" y="3929040"/>
            <a:ext cx="451476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Data Valid Window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9604440" cy="52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The SSTL_18 is intended for DDR2 interface application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590840" y="2705040"/>
            <a:ext cx="646884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DDR2 Timing Analysis with IBIS 3.2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9604440" cy="52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llowing is an example of timing analysis of DQ and DQS. The ADDRESS/COMMAND timing analysis is simila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topology of DQ/DQS is point to point feature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models of CONTROLLER and MEMORY are IBIS3.2 model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987560" y="4179960"/>
            <a:ext cx="5019840" cy="15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Read Cycle Timing Analysis (fast)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55200" y="1407600"/>
            <a:ext cx="936468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fast mode,</a:t>
            </a:r>
            <a:r>
              <a:rPr b="1" lang="en-US" sz="20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imulated eye diagram of read cycle is  as follow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valid window :1.255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veform distortion: 0.245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095560" y="3279600"/>
            <a:ext cx="578628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99840" y="320400"/>
            <a:ext cx="9604440" cy="11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Read Cycle Timing Analysis (slow)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99840" y="1479600"/>
            <a:ext cx="917244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slow mode,</a:t>
            </a:r>
            <a:r>
              <a:rPr b="1" lang="en-US" sz="20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imulated eye diagram of read cycle is  as follow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valid window: 1.217ns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veform distortion :0.283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166840" y="3208320"/>
            <a:ext cx="5510160" cy="39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6T04:02:18Z</dcterms:created>
  <dc:creator>Interbrand</dc:creator>
  <dc:description/>
  <dc:language>en-US</dc:language>
  <cp:lastModifiedBy>g63374</cp:lastModifiedBy>
  <dcterms:modified xsi:type="dcterms:W3CDTF">2007-08-13T03:52:04Z</dcterms:modified>
  <cp:revision>206</cp:revision>
  <dc:subject/>
  <dc:title>PowerPoint Presentation</dc:title>
</cp:coreProperties>
</file>